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65112-6CCE-4D55-B92E-C7F41A5FB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41184-DC7C-4C29-A32B-66B30D0E4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CFCC0-2E10-4391-B4CC-4FFA0673A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ED831-42AA-4C03-A92A-FBC97E1BD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13466-ADD8-4BE6-A579-6C04B4920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D3975-FB2C-4C73-80D0-797553934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64373-AA7F-453F-8D8D-8F49DE213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77AFE-C216-4C61-B6FD-48FD101CB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EE51E-1D7B-46C4-8D29-0F202B209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07692-7B40-4B50-9113-A330E4855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7F6EA-23C8-47B3-A66F-8ECB22049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D54E1-CE9E-40FF-9906-1E82D17CB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AE060-EA5D-426B-B626-DFA330C3F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23035-1646-4C29-9FF9-BDD72C134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503F8-C186-4791-A4C8-11641B010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DA5AD-A7DB-4B5D-9CEA-DAE1322BA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39186-6359-40EE-9733-EB0BD0B0D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2F2F3-F4D9-49A4-8651-285A73A6C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0A9C0-FE81-4266-A81F-D99C50632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56944-3933-4582-8C3F-3149C56C8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4E4E1-3B6C-4E5B-BDE7-206568606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702B3-4834-4F0E-82C5-A8A77ED89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01A06-3709-4715-BEBA-6066603B3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66E29-F10E-4D26-823A-D8A0636E4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E9281-D125-4BF7-B603-5124038568D1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C4BA6-DB30-4151-94CE-42020F1ABA6A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911240" y="3968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trategies for improving completion rates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Motivating Assignment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ncorporate a caus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Give students an audienc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Use hero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ncorporate cultural product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llow choic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Have students create assignment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Other Strategi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Have all students turn in a pape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ntegrate two class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Have students determine assessmen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Have Students present homework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Model Quality Work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ut student work on an overhead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Assessing Homework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Groups- Talk the subjec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Remember ultimate goal- mastery of content and skills- Real world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Redo Homework?????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nior craftsma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Ultimate goa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tandard of excellenc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Homework and our Resourc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Use the web sit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nlist the help of parent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eer tutor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Offer help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Good Luck!!!!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218960" y="1600200"/>
            <a:ext cx="3809880" cy="449568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181480" y="1600200"/>
            <a:ext cx="38102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tructuring Homework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mart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hallenging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Based on student interest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nclude media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urpose of Homework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ractice, practice, practice!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chieve master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Do not assign homework when  students do not have a clear understanding. This will do more harm then good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Workload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Make homework challenging, but not overwhelming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Heavy workload leads to procrastinatio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Feedback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t is key to give students immediate feedback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tudents are more likely to do homework when they receive feedback within a day or two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lso has a greater impact on learning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ype of Assignmen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e more engaging the assignment the more likely it will be done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Break up the routin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Benefits teachers as wel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Unique Assignment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nterview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rtwork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Music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Drama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Media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Use student examples</a:t>
            </a:r>
            <a:br>
              <a:rPr sz="3200"/>
            </a:b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Increase Complexit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tudents are more likely to complete complex assignments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xamples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Draw the meaning of vocabulary word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reate 10 questions which the answer is “conflict”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reate a commercial that promotes the benefits of healthy eating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Higher Level of Questioning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sk students to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ppl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ompare/contras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nalyz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valuat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Opinio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2T17:13:10Z</dcterms:created>
  <dc:creator>Barbara</dc:creator>
  <dc:description/>
  <dc:language>en-US</dc:language>
  <cp:lastModifiedBy>North Rockland Schools</cp:lastModifiedBy>
  <dcterms:modified xsi:type="dcterms:W3CDTF">2007-11-02T11:59:09Z</dcterms:modified>
  <cp:revision>3</cp:revision>
  <dc:subject/>
  <dc:title>Homework</dc:title>
</cp:coreProperties>
</file>